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73E-780F-4661-88F6-AB03F582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7D2-1DEE-4705-BDD5-581EB984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CBC-2A42-44BB-BF9E-4EA783C0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2D3-1499-4FB2-9898-71530FBE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E1FC-ABC5-4869-96BB-7F05D3F9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2C7F-B9A0-4E2D-AE7E-340B4B37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5B1C-7B26-4D5D-8493-7E4C4797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D2E4-DA57-4A5F-B220-4C2A5DC0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7BE0-5F66-4126-B352-1A895818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30D2-7782-41D3-93DD-864D1AD1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C6CB-CD6A-43C2-A376-B1CB5BD4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991-6EB0-4704-AA4F-1FF805F5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CF48-330B-412D-92B4-A7CCB33F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80A5-52CE-45F0-8D56-DF79036C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3881-1931-4ED7-AA4D-EA4843B5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FA7D-D00A-4F67-8D6E-831D200D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8AB1-748C-467C-A388-D1BC3B5A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454-0000-414B-B766-09919C05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0C8-556D-4356-8A66-09486262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AD9-3513-45C6-A83F-E546708E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7CA-B870-4C4F-8E56-9E19A61D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200-03EB-416C-BEB1-EA67B238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16C-324E-499E-8644-C3730B8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FA7-0E78-457C-9444-52F81B5E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FF42-F2BD-4662-9EA7-0720B6A7FAD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0961-C4DC-4866-BC28-7E93C43FC3A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oyecto TIC en un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entro Educativ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50800" y="2841480"/>
            <a:ext cx="3540240" cy="31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F4B3-ED81-4E9C-BF56-2AC9CF30991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36600" y="173160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umentar el interés por aprend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vorecer el aprendizaje cooperativo y soci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stimular creatividad e imaginació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ACB-71B1-40EF-84B3-068E34F3C8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ocument"/>
          <p:cNvSpPr/>
          <p:nvPr/>
        </p:nvSpPr>
        <p:spPr>
          <a:xfrm>
            <a:off x="1190520" y="1666800"/>
            <a:ext cx="4057920" cy="50198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6600" y="1731960"/>
            <a:ext cx="401184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nfatizar la vertiente comunicativa de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Potenciar la integración de alumnado con necesidades educativas especial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miliarizarse y concienciarse del nuevo modelo de formación: autónomo y a distanci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935-B68A-4B25-9BD9-A304A10D04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Unidades Didácticas que incorporen el uso de nuevas tecnologí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daptar o diseñar multimedias que favorezcan el aprendizaje construc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xperimentar modelos de enseñanza alternativos a la instrucción direc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programas de apoyo al alumnado con necesidades edu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DA1-F79D-447C-80C6-EF87EED7C2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sarrollar modelos de evaluación sobre la utilización de los medios tecnológic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Participar en iniciativas de formación presencial y a distancia sobre el uso de las NNT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Reconocer el nuevo rol del profesor: diseñador y facilitador de entorn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spcAft>
                <a:spcPts val="15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677-303F-424C-AC14-BA23889EDB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06560" y="2200320"/>
            <a:ext cx="1674720" cy="1496880"/>
            <a:chOff x="1006560" y="2200320"/>
            <a:chExt cx="1674720" cy="14968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015920" y="220032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404720" y="2486160"/>
              <a:ext cx="69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06560" y="324648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Uso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54560" y="3246480"/>
            <a:ext cx="2266920" cy="1695240"/>
            <a:chOff x="3454560" y="3246480"/>
            <a:chExt cx="2266920" cy="1695240"/>
          </a:xfrm>
        </p:grpSpPr>
        <p:sp>
          <p:nvSpPr>
            <p:cNvPr id="136" name="computr3"/>
            <p:cNvSpPr/>
            <p:nvPr/>
          </p:nvSpPr>
          <p:spPr>
            <a:xfrm>
              <a:off x="3454560" y="3246480"/>
              <a:ext cx="2266920" cy="1695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3640" y="3362400"/>
              <a:ext cx="10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Verdana"/>
                </a:rPr>
                <a:t>Proyec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9680" y="3673440"/>
              <a:ext cx="6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47880" y="1600200"/>
            <a:ext cx="1674720" cy="1496880"/>
            <a:chOff x="2747880" y="1600200"/>
            <a:chExt cx="1674720" cy="14968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757240" y="16002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62960" y="1886040"/>
              <a:ext cx="666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V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26463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Valor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84720" y="1619280"/>
            <a:ext cx="1674720" cy="1496880"/>
            <a:chOff x="5184720" y="1619280"/>
            <a:chExt cx="1674720" cy="14968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194080" y="161928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25360" y="1905120"/>
              <a:ext cx="616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4720" y="266544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Alfabet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Digi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40360" y="2496960"/>
            <a:ext cx="1674720" cy="1496880"/>
            <a:chOff x="6840360" y="2496960"/>
            <a:chExt cx="1674720" cy="149688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6849720" y="2496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287480" y="2782800"/>
              <a:ext cx="60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0360" y="3543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ten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vers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0360" y="4370400"/>
            <a:ext cx="1674720" cy="1496880"/>
            <a:chOff x="6840360" y="4370400"/>
            <a:chExt cx="1674720" cy="14968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6849720" y="43704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12680" y="4656240"/>
              <a:ext cx="555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0360" y="54165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Escol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70520" y="5119560"/>
            <a:ext cx="1674720" cy="1496880"/>
            <a:chOff x="4970520" y="5119560"/>
            <a:chExt cx="1674720" cy="1496880"/>
          </a:xfrm>
        </p:grpSpPr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4979880" y="5119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414400" y="5405400"/>
              <a:ext cx="612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G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70520" y="6165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Gest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dmin. y Tu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89120" y="5281560"/>
            <a:ext cx="1674720" cy="1496880"/>
            <a:chOff x="2589120" y="5281560"/>
            <a:chExt cx="1674720" cy="1496880"/>
          </a:xfrm>
        </p:grpSpPr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2598480" y="5281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69720" y="5567400"/>
              <a:ext cx="540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F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89120" y="6327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Form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Profesor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38080" y="4071960"/>
            <a:ext cx="1674720" cy="1496880"/>
            <a:chOff x="838080" y="4071960"/>
            <a:chExt cx="1674720" cy="1496880"/>
          </a:xfrm>
        </p:grpSpPr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847440" y="4071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240920" y="4357800"/>
              <a:ext cx="69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118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622-5805-4C1B-B139-3A49C4365FB4}" type="slidenum">
              <a:t>1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1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Tecl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 Windows: Programas y Ventan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Word: edición básica de un documento: título, imagen y tex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Internet: websites conocid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Mi Primera Encar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vío y Recepción de Email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65C-98D6-4CFE-83EB-71649AD9F3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2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Teclad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ntorno Windows: Archivos y Dis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Word: edición de un documento: formato de imagen y text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Navegación por Internet:herramientas escolares y buscad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Herramientas escolares de Encart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mails con adju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scaneado de imágenes prop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036-1473-4894-9A51-9FE7253D00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tras 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Escol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Administrativa y Tutor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Valoración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Diseño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C84-E57B-4386-9DE1-F19672EF0B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blioteca Esco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-&gt; Mediate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catálogo: Abies 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Consulta web del catálogo: Bonsai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Formación de usuari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oyecto interdisciplinar por hit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f7f7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0" y="5210280"/>
            <a:ext cx="2033640" cy="16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5C5-EE95-4BB7-B34A-B59F1BFE04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stión Administrativa y 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lantillas documentación oficial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scola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conómi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Noticias web para famili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tutorial: listas y evaluacione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39E-F0A2-4A24-A079-9A5542EE8C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Índ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ntex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ínea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z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a Web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rmación del Profesora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yec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erspectivas del futu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9E4-FBCD-408A-991D-59F7012157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loración de Mater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quip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Criterios de valoración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1) Profesor Marc Per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técnicos: interacción, fiabilidad, navegación, etc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estéticos: entorno, cal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de utilidad didáctica: estrategias, evaluación, continu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pedagógicos: refuerzos, motivación, buscado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laboración de una guía de explotación didáctic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Presentación del mater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Revisión del Plan Anual de Uso de Material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BDE-9BD4-4938-8FA9-0A609ECE47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eño de Materia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2548080"/>
            <a:ext cx="7313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ecesidad del diseño: escasez de iniciativas editoria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s de publicación: Aula - Red local – Web del centro – Aula virtual - Otr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Herramientas: Word – FrontPage - PowerPoint – Autor NEA - Hot Potatoes – JClic – Flash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3800" y="530280"/>
            <a:ext cx="2039760" cy="20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435-0704-4405-A82B-C0243DA74D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orarios y espac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gram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 Coordinador 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DB7-532E-4BD1-80C7-275E080007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Horarios y espac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90840" y="1827360"/>
            <a:ext cx="70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quincenal. Cada grupo asiste con profesor especialista (Inglés-Música-Llíngua-Plástica) (20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 Alfabetización Digital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un profesor responsable de Ciclo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BE Biblioteca Escolar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tención a la Diversidad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(apoyos): resto horario lectivo disponibl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FP Formación profesorado.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Horario de dedicación exclusiva (2 horas semanales: individual y grupo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6440" y="4495680"/>
            <a:ext cx="1594080" cy="21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4089-870D-40CB-80C3-4803C51853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Organigram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410080" y="2540160"/>
            <a:ext cx="3601440" cy="1402560"/>
            <a:chOff x="5410080" y="2540160"/>
            <a:chExt cx="3601440" cy="1402560"/>
          </a:xfrm>
        </p:grpSpPr>
        <p:sp>
          <p:nvSpPr>
            <p:cNvPr id="194" name=""/>
            <p:cNvSpPr/>
            <p:nvPr/>
          </p:nvSpPr>
          <p:spPr>
            <a:xfrm>
              <a:off x="5410080" y="2540160"/>
              <a:ext cx="1308240" cy="1226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2160" y="3422520"/>
              <a:ext cx="225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V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Profesores de Apoy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, Logopedia y 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10200" y="1724040"/>
            <a:ext cx="2193840" cy="1225440"/>
            <a:chOff x="6010200" y="1724040"/>
            <a:chExt cx="2193840" cy="1225440"/>
          </a:xfrm>
        </p:grpSpPr>
        <p:sp>
          <p:nvSpPr>
            <p:cNvPr id="197" name=""/>
            <p:cNvSpPr/>
            <p:nvPr/>
          </p:nvSpPr>
          <p:spPr>
            <a:xfrm>
              <a:off x="6461280" y="2016000"/>
              <a:ext cx="1168200" cy="9334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0200" y="172404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A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utores y Secreta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16640" y="2062080"/>
            <a:ext cx="1717200" cy="1704960"/>
            <a:chOff x="1016640" y="2062080"/>
            <a:chExt cx="1717200" cy="1704960"/>
          </a:xfrm>
        </p:grpSpPr>
        <p:sp>
          <p:nvSpPr>
            <p:cNvPr id="200" name=""/>
            <p:cNvSpPr/>
            <p:nvPr/>
          </p:nvSpPr>
          <p:spPr>
            <a:xfrm>
              <a:off x="1380960" y="2579760"/>
              <a:ext cx="1352880" cy="11872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6640" y="2062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E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sponsa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 la 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3000" y="3173400"/>
            <a:ext cx="2939760" cy="1347840"/>
            <a:chOff x="783000" y="3173400"/>
            <a:chExt cx="2939760" cy="1347840"/>
          </a:xfrm>
        </p:grpSpPr>
        <p:sp>
          <p:nvSpPr>
            <p:cNvPr id="203" name=""/>
            <p:cNvSpPr/>
            <p:nvPr/>
          </p:nvSpPr>
          <p:spPr>
            <a:xfrm>
              <a:off x="2185920" y="3173400"/>
              <a:ext cx="1536840" cy="1347840"/>
            </a:xfrm>
            <a:prstGeom prst="pi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3000" y="3848040"/>
              <a:ext cx="149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Grupos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57040" y="4297320"/>
            <a:ext cx="2229120" cy="2050200"/>
            <a:chOff x="1157040" y="4297320"/>
            <a:chExt cx="2229120" cy="2050200"/>
          </a:xfrm>
        </p:grpSpPr>
        <p:sp>
          <p:nvSpPr>
            <p:cNvPr id="206" name=""/>
            <p:cNvSpPr/>
            <p:nvPr/>
          </p:nvSpPr>
          <p:spPr>
            <a:xfrm>
              <a:off x="1228680" y="4297320"/>
              <a:ext cx="1893960" cy="169236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7040" y="60404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FP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odos los 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12480" y="2070000"/>
            <a:ext cx="2462040" cy="1758960"/>
            <a:chOff x="3012480" y="2070000"/>
            <a:chExt cx="2462040" cy="1758960"/>
          </a:xfrm>
        </p:grpSpPr>
        <p:sp>
          <p:nvSpPr>
            <p:cNvPr id="209" name=""/>
            <p:cNvSpPr/>
            <p:nvPr/>
          </p:nvSpPr>
          <p:spPr>
            <a:xfrm>
              <a:off x="3436920" y="2481120"/>
              <a:ext cx="1373040" cy="134784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2480" y="2070000"/>
              <a:ext cx="246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V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Coordinador Ciclo y u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 por especial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91120" y="3259080"/>
            <a:ext cx="4073760" cy="1347840"/>
            <a:chOff x="4191120" y="3259080"/>
            <a:chExt cx="4073760" cy="1347840"/>
          </a:xfrm>
        </p:grpSpPr>
        <p:sp>
          <p:nvSpPr>
            <p:cNvPr id="212" name=""/>
            <p:cNvSpPr/>
            <p:nvPr/>
          </p:nvSpPr>
          <p:spPr>
            <a:xfrm>
              <a:off x="4191120" y="3259080"/>
              <a:ext cx="1536480" cy="13478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7560" y="3968640"/>
              <a:ext cx="240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U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utores, Especialist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y Apoyos a Grup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05400" y="4297320"/>
            <a:ext cx="2553120" cy="1999440"/>
            <a:chOff x="4505400" y="4297320"/>
            <a:chExt cx="2553120" cy="1999440"/>
          </a:xfrm>
        </p:grpSpPr>
        <p:sp>
          <p:nvSpPr>
            <p:cNvPr id="215" name=""/>
            <p:cNvSpPr/>
            <p:nvPr/>
          </p:nvSpPr>
          <p:spPr>
            <a:xfrm>
              <a:off x="4505400" y="4297320"/>
              <a:ext cx="1666800" cy="15843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2640" y="5989680"/>
              <a:ext cx="23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Un profesor por Cic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F33-7CC3-4AA8-AA16-DE8C83A626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l Coordinador TI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Sus funciones más destacadas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Apoyar al profesorado en la integración de las TICs en la docencia diaria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Organizar y gestionar los recursos asegurando su correcto funcionamient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laborar en la implantación de los servicios de la Intra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Dinamizar los proyectos del centro relacionados con NNT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Gestionar el presupuesto específic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ordinar la comunicación del centro con las instituciones en temas TIC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018040" y="2141640"/>
            <a:ext cx="3665520" cy="28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954-8648-49C2-9512-4005298D65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Web del Cen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tu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FD5-1157-41E9-B78B-131C0036B1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web del centro I: Situ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Recurso importante en el proyecto TIC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etende los mismos objetivos que el plan TI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be superar el enfoque inicial de “escaparate”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rtal de recursos de continua referencia del alumnado: de lo conocido a lo desconoci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1EF-3728-42CE-9076-9584F615DA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 web del centro II: Princip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Usabil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entorno intuitivo, amigable y adaptado a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ctiv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participación de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Enfoque educativo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omentar un uso más racional de los medios tecnológi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comunicar los detalles del proyecto educativo al resto de la comunidad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Portal de recursos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integrar múltiples recursos para convertirlo en sitio de referencia permanent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ni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acilitador de experiencias didácticas de innov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EDB-37F3-421A-ADE2-F906E15140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mación del profesorado: Mod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00120" y="1827360"/>
            <a:ext cx="628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actor clave de la integración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minario de formación en centr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Bajo la dirección del coordinador y con el apoyo del Centr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esión quincenal de 2 hor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lterna formación impartida por el coordinador con trabajo individual, de pequeño y de gran grup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presencial: cursos del Centro de Profesor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a distancia: Consejería y CNI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680" y="3591000"/>
            <a:ext cx="2209680" cy="30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5E3-3C66-4767-9A33-529F71A97A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tuación actual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incipio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D42-736F-4153-83D3-50313A7AF6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valuación del proye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alumn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feso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ces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97D-98AF-4658-86D5-8C1567E6EC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alumn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cilita la creatividad y la imagin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vorece la comunicación del alumnado con su entorn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sibilita la integración social de alumnos con ne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tencia el uso de nuevos entornos de aprendiza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444-AA3C-4D13-8A43-80B260CEA3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valuación del alumno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integración TIC supone construcción del conocimien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mejoran las habilidades de pensamiento crític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adquieren valores relacionados con el uso de las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estimula el interés por aprender en alumnos con ne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fomenta el trabajo cooperativ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23A-C191-4F3B-A4EE-6E4D49BE50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9880" y="1827000"/>
            <a:ext cx="694368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incorporado TICs como instrumentos cognitivos en el desarrollo de Unidades Didáctic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aprovechamiento de las TICs es el má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 participado activamente en la valoración, adaptación y diseño de recurs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experimentado modelos de enseñanza alternativos a la inst.direc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F81-34B1-4EB4-9323-E11419D734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9880" y="1827360"/>
            <a:ext cx="69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ha puesto en práctica algún modelo de eval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la formación recibida es de utilidad en la docencia diari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existe sensibilidad hacia el cambio de rol del profesor que supone la integración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999-A9D6-468F-92C9-E8E6D0285E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19080" y="1827360"/>
            <a:ext cx="686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os recursos son adecuados y se utilizan de forma eficaz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organización de recursos es idóne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xiste compromiso de todos los participantes: alumnado, profesorado, familias, et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observa especial incidencia en la práctica docente y familia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trabajo del coordinador de TICs e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00160" y="5181480"/>
            <a:ext cx="1307880" cy="1227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89160" y="5573880"/>
            <a:ext cx="1054080" cy="988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689-6526-4C64-8C2F-2F6192F182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4280" y="2189160"/>
            <a:ext cx="4559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prendizaje sobre/con la tecnologí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amas basados en la filosofía del refuerz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 éxito de una aplicación también depende del contexto de us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720" y="3922560"/>
            <a:ext cx="2818080" cy="272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56120" y="1482840"/>
            <a:ext cx="5778360" cy="3375000"/>
          </a:xfrm>
          <a:prstGeom prst="cloudCallout">
            <a:avLst>
              <a:gd name="adj1" fmla="val -40740"/>
              <a:gd name="adj2" fmla="val 69990"/>
            </a:avLst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D12-978A-43AC-85CD-C98CF115AC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2027160"/>
            <a:ext cx="4888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tecnología no garantiza motiv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o del ordenador como un lib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as para reforzar conocimientos o bien para mejorar la productiv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flicto de competencias entre el ser humano y la máqui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217600">
            <a:off x="6362640" y="4673160"/>
            <a:ext cx="3149640" cy="304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960" y="1444680"/>
            <a:ext cx="6458040" cy="4079880"/>
          </a:xfrm>
          <a:prstGeom prst="cloudCallout">
            <a:avLst>
              <a:gd name="adj1" fmla="val 45106"/>
              <a:gd name="adj2" fmla="val 39532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F71-597E-4337-9060-B53C957472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0080" y="188424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mentar creación frente a reproduc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vorecer el aprendizaje interactivo, constructivo, autorregulado y tecnológ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orar el medio tecnológico por su valor como instrumento cognitiv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fatizar la construcción del conoci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ular el desarrollo de habilidades del pensa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5480" y="1590840"/>
            <a:ext cx="201420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8C9-28CD-41F6-ABF2-C5FEB48109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960" y="1827360"/>
            <a:ext cx="55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sibilizarse con la educación en valores relacionada con el uso de las tecnologí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Enfatizar la vertiente cooperativa del aprendizaje: alumnos, profes, pad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Desarrollar habilidades instrumentale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lternar modelos de enseñanza y aprendizaje variado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Utilizar un recurso tecnológico sólo si merece la pen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2200" y="3514680"/>
            <a:ext cx="201456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61C-5F51-4409-8169-1B1E298ABA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Alumnad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Profesorado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53D-0ADE-415E-A5AA-F5DA4F8C5D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6600" y="170316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Construir aprendizaje del currículo usando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Mejorar habilidades del pensamiento adquiriendo estrategias inteligent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Desarrollar el sentido crít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dquirir una adecuada formación en valo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31C-18BB-4C4A-8CB0-70376E3E83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41:53Z</dcterms:created>
  <dc:creator> fpp</dc:creator>
  <dc:description/>
  <dc:language>en-US</dc:language>
  <cp:lastModifiedBy>fpp</cp:lastModifiedBy>
  <dcterms:modified xsi:type="dcterms:W3CDTF">2007-05-05T22:15:31Z</dcterms:modified>
  <cp:revision>95</cp:revision>
  <dc:subject/>
  <dc:title>Proyecto de TICs en un  Centro de Educación Prim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Proyecto de TICs en un</vt:lpwstr>
  </property>
  <property fmtid="{D5CDD505-2E9C-101B-9397-08002B2CF9AE}" pid="3" name="LastUsedName">
    <vt:lpwstr>Proyecto de TICs en un</vt:lpwstr>
  </property>
</Properties>
</file>