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1C21-C90C-47A9-B18E-7D75E3A0B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CCA8-CB4C-4A8F-83EE-84C512F6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C6EA-FF6D-4483-9A02-90B6A33A6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0628-FB25-40F5-878C-E9E7636C0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9EE8F-86A6-42A5-919E-4B695080E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279ED-32DA-4905-808E-47E6FF31E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7356A-D7D4-44F8-B885-17FE6A204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FB040-4EE8-4B8B-ADE4-06C15DC58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ABD8A-6D8C-4E1C-80DA-CC6EF4D17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B2563-8526-4FDB-B156-8B50DE62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78631-7A9C-41DB-914A-4EC1711A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D35B-962C-42D6-9EDC-11568D20A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5B074-15D3-4A9E-9C26-0C90B942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54A23-185B-4A91-B12B-34807717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CD448-D98E-4686-9F2A-B4AE5C4B8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984D3-15B8-4D6F-930F-5A5F93085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A39C0-E243-43A8-976C-D8222D75A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88AF-E5E5-4C41-B083-33563517F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18BD-E50A-48A7-8411-0F48A093D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C01A-AAA6-4435-B134-C12E1AC1A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C562-3314-4663-B279-B1A160D71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C5BD-355E-4872-AD41-E28994B6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7909-1CE1-4DCE-8D02-B9F62A80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FC5F-A42B-4917-9027-BFA836EE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ffff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42FB5-6969-4FC9-80C1-86EB099C52D0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F741-7C49-4611-9A8B-2C7EBA70EA0F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Proyecto TIC en un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Centro Educativo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450800" y="2841480"/>
            <a:ext cx="3540240" cy="311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96587-5562-4380-AF86-0C5F793206E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ocument"/>
          <p:cNvSpPr/>
          <p:nvPr/>
        </p:nvSpPr>
        <p:spPr>
          <a:xfrm>
            <a:off x="1190520" y="1666800"/>
            <a:ext cx="4057920" cy="50389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bjetivos del alumnado I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36600" y="1731600"/>
            <a:ext cx="401184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Aumentar el interés por aprender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Favorecer el aprendizaje cooperativo y socia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Estimular creatividad e imaginación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664240" y="3857760"/>
            <a:ext cx="28764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5A83-8269-47B9-A63B-7F97B60302D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ocument"/>
          <p:cNvSpPr/>
          <p:nvPr/>
        </p:nvSpPr>
        <p:spPr>
          <a:xfrm>
            <a:off x="1190520" y="1666800"/>
            <a:ext cx="4057920" cy="50198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bjetivos del alumnado II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36600" y="1731960"/>
            <a:ext cx="4011840" cy="40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Enfatizar la vertiente comunicativa de los medios tecnológico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Potenciar la integración de alumnado con necesidades educativas especiale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Familiarizarse y concienciarse del nuevo modelo de formación: autónomo y a distancia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664240" y="3857760"/>
            <a:ext cx="28764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AB77-2329-4227-8802-7415BF486EB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bjetivos del profesorado 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95480" y="1827360"/>
            <a:ext cx="668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Diseñar Unidades Didácticas que incorporen el uso de nuevas tecnología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Adaptar o diseñar multimedias que favorezcan el aprendizaje constructiv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Experimentar modelos de enseñanza alternativos a la instrucción direct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Diseñar programas de apoyo al alumnado con necesidades educativa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16080" y="4189320"/>
            <a:ext cx="142380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00D5-C970-4810-A937-023BFBD92FB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bjetivos del profesorado I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995480" y="1827360"/>
            <a:ext cx="668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spcAft>
                <a:spcPts val="1562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Desarrollar modelos de evaluación sobre la utilización de los medios tecnológico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spcAft>
                <a:spcPts val="1562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Participar en iniciativas de formación presencial y a distancia sobre el uso de las NNTT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spcAft>
                <a:spcPts val="1562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Reconocer el nuevo rol del profesor: diseñador y facilitador de entorno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spcAft>
                <a:spcPts val="156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16080" y="4189320"/>
            <a:ext cx="142380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1680-C746-4EDC-B6A3-31A5A108502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Líneas de Actuac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006560" y="2200320"/>
            <a:ext cx="1674720" cy="1496880"/>
            <a:chOff x="1006560" y="2200320"/>
            <a:chExt cx="1674720" cy="1496880"/>
          </a:xfrm>
        </p:grpSpPr>
        <p:pic>
          <p:nvPicPr>
            <p:cNvPr id="132" name="" descr=""/>
            <p:cNvPicPr/>
            <p:nvPr/>
          </p:nvPicPr>
          <p:blipFill>
            <a:blip r:embed="rId1"/>
            <a:stretch/>
          </p:blipFill>
          <p:spPr>
            <a:xfrm>
              <a:off x="1015920" y="2200320"/>
              <a:ext cx="149724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1404720" y="2486160"/>
              <a:ext cx="69876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U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006560" y="3246480"/>
              <a:ext cx="1674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Uso de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Material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3454560" y="3246480"/>
            <a:ext cx="2266920" cy="1695240"/>
            <a:chOff x="3454560" y="3246480"/>
            <a:chExt cx="2266920" cy="1695240"/>
          </a:xfrm>
        </p:grpSpPr>
        <p:sp>
          <p:nvSpPr>
            <p:cNvPr id="136" name="computr3"/>
            <p:cNvSpPr/>
            <p:nvPr/>
          </p:nvSpPr>
          <p:spPr>
            <a:xfrm>
              <a:off x="3454560" y="3246480"/>
              <a:ext cx="2266920" cy="169524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193640" y="3362400"/>
              <a:ext cx="101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00"/>
                  </a:solidFill>
                  <a:latin typeface="Verdana"/>
                </a:rPr>
                <a:t>Proyect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69680" y="3673440"/>
              <a:ext cx="66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TI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2747880" y="1600200"/>
            <a:ext cx="1674720" cy="1496880"/>
            <a:chOff x="2747880" y="1600200"/>
            <a:chExt cx="1674720" cy="1496880"/>
          </a:xfrm>
        </p:grpSpPr>
        <p:pic>
          <p:nvPicPr>
            <p:cNvPr id="140" name="" descr=""/>
            <p:cNvPicPr/>
            <p:nvPr/>
          </p:nvPicPr>
          <p:blipFill>
            <a:blip r:embed="rId2"/>
            <a:stretch/>
          </p:blipFill>
          <p:spPr>
            <a:xfrm>
              <a:off x="2757240" y="1600200"/>
              <a:ext cx="149724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3162960" y="1886040"/>
              <a:ext cx="66672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V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47880" y="2646360"/>
              <a:ext cx="1674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Valoración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Material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184720" y="1619280"/>
            <a:ext cx="1674720" cy="1496880"/>
            <a:chOff x="5184720" y="1619280"/>
            <a:chExt cx="1674720" cy="1496880"/>
          </a:xfrm>
        </p:grpSpPr>
        <p:pic>
          <p:nvPicPr>
            <p:cNvPr id="144" name="" descr=""/>
            <p:cNvPicPr/>
            <p:nvPr/>
          </p:nvPicPr>
          <p:blipFill>
            <a:blip r:embed="rId3"/>
            <a:stretch/>
          </p:blipFill>
          <p:spPr>
            <a:xfrm>
              <a:off x="5194080" y="1619280"/>
              <a:ext cx="149724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5625360" y="1905120"/>
              <a:ext cx="61668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A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84720" y="2665440"/>
              <a:ext cx="1674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333300"/>
                  </a:solidFill>
                  <a:latin typeface="Trebuchet MS"/>
                </a:rPr>
                <a:t>Alfabetiz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333300"/>
                  </a:solidFill>
                  <a:latin typeface="Trebuchet MS"/>
                </a:rPr>
                <a:t>Digit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6840360" y="2496960"/>
            <a:ext cx="1674720" cy="1496880"/>
            <a:chOff x="6840360" y="2496960"/>
            <a:chExt cx="1674720" cy="1496880"/>
          </a:xfrm>
        </p:grpSpPr>
        <p:pic>
          <p:nvPicPr>
            <p:cNvPr id="148" name="" descr=""/>
            <p:cNvPicPr/>
            <p:nvPr/>
          </p:nvPicPr>
          <p:blipFill>
            <a:blip r:embed="rId4"/>
            <a:stretch/>
          </p:blipFill>
          <p:spPr>
            <a:xfrm>
              <a:off x="6849720" y="2496960"/>
              <a:ext cx="149724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7287480" y="2782800"/>
              <a:ext cx="60444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DV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40360" y="3543120"/>
              <a:ext cx="1674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Atenc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Diversida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840360" y="4370400"/>
            <a:ext cx="1674720" cy="1496880"/>
            <a:chOff x="6840360" y="4370400"/>
            <a:chExt cx="1674720" cy="1496880"/>
          </a:xfrm>
        </p:grpSpPr>
        <p:pic>
          <p:nvPicPr>
            <p:cNvPr id="152" name="" descr=""/>
            <p:cNvPicPr/>
            <p:nvPr/>
          </p:nvPicPr>
          <p:blipFill>
            <a:blip r:embed="rId5"/>
            <a:stretch/>
          </p:blipFill>
          <p:spPr>
            <a:xfrm>
              <a:off x="6849720" y="4370400"/>
              <a:ext cx="149724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7312680" y="4656240"/>
              <a:ext cx="55548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B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40360" y="5416560"/>
              <a:ext cx="1674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Bibliotec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Escola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4970520" y="5119560"/>
            <a:ext cx="1674720" cy="1496880"/>
            <a:chOff x="4970520" y="5119560"/>
            <a:chExt cx="1674720" cy="1496880"/>
          </a:xfrm>
        </p:grpSpPr>
        <p:pic>
          <p:nvPicPr>
            <p:cNvPr id="156" name="" descr=""/>
            <p:cNvPicPr/>
            <p:nvPr/>
          </p:nvPicPr>
          <p:blipFill>
            <a:blip r:embed="rId6"/>
            <a:stretch/>
          </p:blipFill>
          <p:spPr>
            <a:xfrm>
              <a:off x="4979880" y="5119560"/>
              <a:ext cx="149724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5414400" y="5405400"/>
              <a:ext cx="6120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G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970520" y="6165720"/>
              <a:ext cx="1674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Gest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Admin. y Tuto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2589120" y="5281560"/>
            <a:ext cx="1674720" cy="1496880"/>
            <a:chOff x="2589120" y="5281560"/>
            <a:chExt cx="1674720" cy="1496880"/>
          </a:xfrm>
        </p:grpSpPr>
        <p:pic>
          <p:nvPicPr>
            <p:cNvPr id="160" name="" descr=""/>
            <p:cNvPicPr/>
            <p:nvPr/>
          </p:nvPicPr>
          <p:blipFill>
            <a:blip r:embed="rId7"/>
            <a:stretch/>
          </p:blipFill>
          <p:spPr>
            <a:xfrm>
              <a:off x="2598480" y="5281560"/>
              <a:ext cx="149724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3069720" y="5567400"/>
              <a:ext cx="54036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F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89120" y="6327720"/>
              <a:ext cx="1674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Formac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Profesorad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838080" y="4071960"/>
            <a:ext cx="1674720" cy="1496880"/>
            <a:chOff x="838080" y="4071960"/>
            <a:chExt cx="1674720" cy="1496880"/>
          </a:xfrm>
        </p:grpSpPr>
        <p:pic>
          <p:nvPicPr>
            <p:cNvPr id="164" name="" descr=""/>
            <p:cNvPicPr/>
            <p:nvPr/>
          </p:nvPicPr>
          <p:blipFill>
            <a:blip r:embed="rId8"/>
            <a:stretch/>
          </p:blipFill>
          <p:spPr>
            <a:xfrm>
              <a:off x="847440" y="4071960"/>
              <a:ext cx="149724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1240920" y="4357800"/>
              <a:ext cx="69444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D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38080" y="5118120"/>
              <a:ext cx="1674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Diseñ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Material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F925-AA95-43D0-A27D-CCD6CA79B5BD}" type="slidenum">
              <a:t>14</a:t>
            </a:fld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lfabetización Digital: 1º Cicl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Teclado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Entorno Windows: Programas y Ventana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Word: edición básica de un documento: título, imagen y texto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Navegación por Internet: websites conocida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0228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Navegación por Mi Primera Encarta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Dibujar con el Paint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La cámara digital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La grabadora de sonido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Envío y Recepción de Email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058160" y="0"/>
            <a:ext cx="1825560" cy="1905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C91B-735C-45A7-A817-DE43C6D3E0B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lfabetización Digital: 2º Cicl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Teclado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Entorno Windows: Archivos y Disco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Word: edición de un documento: formato de imagen y texto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Navegación por Internet:herramientas escolares y buscadore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0228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Herramientas escolares de Encarta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Dibujar con el Paint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La cámara digital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La grabadora de sonido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Emails con adjunto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Escaneado de imágenes propia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058160" y="0"/>
            <a:ext cx="1825560" cy="1905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57C3-6B32-4DEE-9EBF-3158B084AE5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Otras Líneas de Actuac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Biblioteca Escolar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Gestión Administrativa y Tutoria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Valoración de Material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Diseño de Material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6DCC-4244-4FBA-B6DE-7722A88B055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iblioteca Escola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Biblioteca -&gt; Mediateca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Gestión catálogo: Abies 2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Consulta web del catálogo: Bonsai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Formación de usuario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Proyecto interdisciplinar por hito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7f7f7f"/>
                </a:solidFill>
                <a:latin typeface="Verdana"/>
              </a:rPr>
              <a:t>	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8440" y="5210280"/>
            <a:ext cx="2033640" cy="16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8252-0332-4BCA-9545-E90CF0C1436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Gestión Administrativa y Tutori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Plantillas documentación oficial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Gestión escolar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Gestión económica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Noticias web para familia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Gestión tutorial: listas y evaluacione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6FEB-A867-43CD-A413-17F7680FAC4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Índi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ontexto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Objetivo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Líneas de Actuación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Organización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La Web del Centro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rmación del Profesorado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valuación del Proyecto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Perspectivas del futuro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45C9-07BD-4959-A54B-26ACE3BC8F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Valoración de Material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Equipo de profesore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Criterios de valoración </a:t>
            </a: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1) Profesor Marc Peré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Verdana"/>
              </a:rPr>
              <a:t>Aspectos técnicos: interacción, fiabilidad, navegación, etc. 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Verdana"/>
              </a:rPr>
              <a:t>Aspectos estéticos: entorno, calidad …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Verdana"/>
              </a:rPr>
              <a:t>Aspectos de utilidad didáctica: estrategias, evaluación, continuidad …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Verdana"/>
              </a:rPr>
              <a:t>Aspectos pedagógicos: refuerzos, motivación, buscadores, etc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Elaboración de una guía de explotación didáctica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Presentación del material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Revisión del Plan Anual de Uso de Materiale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08D6-8290-4385-8CA1-815AC703556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Diseño de Materiale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69800" y="2548080"/>
            <a:ext cx="73134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Necesidad del diseño: escasez de iniciativas editoriale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Entornos de publicación: Aula - Red local – Web del centro – Aula virtual - Otro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Herramientas: Word – FrontPage - PowerPoint – Autor NEA - Hot Potatoes – JClic – Flash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43800" y="530280"/>
            <a:ext cx="2039760" cy="201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4B90-DC1A-401F-A9D9-A6FF10CA9B3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Organizac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Horarios y espacio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Organigrama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l Coordinador TIC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E5EA-ECD8-471E-9C86-3E52686D7CD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Organización: Horarios y espacio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90840" y="1827360"/>
            <a:ext cx="709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3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UM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Uso de Materiales I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: 1 sesión semanal. Cada grupo asiste con su tutor. (12 horas)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3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UM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Uso de Materiales II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: 1 sesión quincenal. Cada grupo asiste con profesor especialista (Inglés-Música-Llíngua-Plástica) (20 horas)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3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AD Alfabetización Digital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: 1 sesión semanal. Cada grupo asiste con un profesor responsable de Ciclo (12 horas)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3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BE Biblioteca Escolar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: 1 sesión semanal. Cada grupo asiste con su tutor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3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AD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Atención a la Diversidad 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(apoyos): resto horario lectivo disponible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3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FP Formación profesorado. 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Horario de dedicación exclusiva (2 horas semanales: individual y grupo)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36440" y="4495680"/>
            <a:ext cx="1594080" cy="216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9EC8-B819-4F8A-85E6-E1478D5C95B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Organización: Organigram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410080" y="2540160"/>
            <a:ext cx="3601440" cy="1402560"/>
            <a:chOff x="5410080" y="2540160"/>
            <a:chExt cx="3601440" cy="1402560"/>
          </a:xfrm>
        </p:grpSpPr>
        <p:sp>
          <p:nvSpPr>
            <p:cNvPr id="194" name=""/>
            <p:cNvSpPr/>
            <p:nvPr/>
          </p:nvSpPr>
          <p:spPr>
            <a:xfrm>
              <a:off x="5410080" y="2540160"/>
              <a:ext cx="1308240" cy="1226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752160" y="3422520"/>
              <a:ext cx="225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DV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: Profesores de Apoy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, Logopedia y P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6010200" y="1724040"/>
            <a:ext cx="2193840" cy="1225440"/>
            <a:chOff x="6010200" y="1724040"/>
            <a:chExt cx="2193840" cy="1225440"/>
          </a:xfrm>
        </p:grpSpPr>
        <p:sp>
          <p:nvSpPr>
            <p:cNvPr id="197" name=""/>
            <p:cNvSpPr/>
            <p:nvPr/>
          </p:nvSpPr>
          <p:spPr>
            <a:xfrm>
              <a:off x="6461280" y="2016000"/>
              <a:ext cx="1168200" cy="93348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010200" y="1724040"/>
              <a:ext cx="219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GA: 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utores y Secretarí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1016640" y="2062080"/>
            <a:ext cx="1717200" cy="1704960"/>
            <a:chOff x="1016640" y="2062080"/>
            <a:chExt cx="1717200" cy="1704960"/>
          </a:xfrm>
        </p:grpSpPr>
        <p:sp>
          <p:nvSpPr>
            <p:cNvPr id="200" name=""/>
            <p:cNvSpPr/>
            <p:nvPr/>
          </p:nvSpPr>
          <p:spPr>
            <a:xfrm>
              <a:off x="1380960" y="2579760"/>
              <a:ext cx="1352880" cy="11872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16640" y="20620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BE: 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Responsabl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de la Bibliotec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783000" y="3173400"/>
            <a:ext cx="2939760" cy="1347840"/>
            <a:chOff x="783000" y="3173400"/>
            <a:chExt cx="2939760" cy="1347840"/>
          </a:xfrm>
        </p:grpSpPr>
        <p:sp>
          <p:nvSpPr>
            <p:cNvPr id="203" name=""/>
            <p:cNvSpPr/>
            <p:nvPr/>
          </p:nvSpPr>
          <p:spPr>
            <a:xfrm>
              <a:off x="2185920" y="3173400"/>
              <a:ext cx="1536840" cy="1347840"/>
            </a:xfrm>
            <a:prstGeom prst="pie">
              <a:avLst/>
            </a:prstGeom>
            <a:solidFill>
              <a:srgbClr val="66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83000" y="3848040"/>
              <a:ext cx="149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DM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: Grupos de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profesor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1157040" y="4297320"/>
            <a:ext cx="2229120" cy="2050200"/>
            <a:chOff x="1157040" y="4297320"/>
            <a:chExt cx="2229120" cy="2050200"/>
          </a:xfrm>
        </p:grpSpPr>
        <p:sp>
          <p:nvSpPr>
            <p:cNvPr id="206" name=""/>
            <p:cNvSpPr/>
            <p:nvPr/>
          </p:nvSpPr>
          <p:spPr>
            <a:xfrm>
              <a:off x="1228680" y="4297320"/>
              <a:ext cx="1893960" cy="1692360"/>
            </a:xfrm>
            <a:prstGeom prst="pi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157040" y="6040440"/>
              <a:ext cx="22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FP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: Todos los profesor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3012480" y="2070000"/>
            <a:ext cx="2462040" cy="1758960"/>
            <a:chOff x="3012480" y="2070000"/>
            <a:chExt cx="2462040" cy="1758960"/>
          </a:xfrm>
        </p:grpSpPr>
        <p:sp>
          <p:nvSpPr>
            <p:cNvPr id="209" name=""/>
            <p:cNvSpPr/>
            <p:nvPr/>
          </p:nvSpPr>
          <p:spPr>
            <a:xfrm>
              <a:off x="3436920" y="2481120"/>
              <a:ext cx="1373040" cy="1347840"/>
            </a:xfrm>
            <a:prstGeom prst="pie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012480" y="2070000"/>
              <a:ext cx="2462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VM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: Coordinador Ciclo y u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profesor por especialida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4191120" y="3259080"/>
            <a:ext cx="4073760" cy="1347840"/>
            <a:chOff x="4191120" y="3259080"/>
            <a:chExt cx="4073760" cy="1347840"/>
          </a:xfrm>
        </p:grpSpPr>
        <p:sp>
          <p:nvSpPr>
            <p:cNvPr id="212" name=""/>
            <p:cNvSpPr/>
            <p:nvPr/>
          </p:nvSpPr>
          <p:spPr>
            <a:xfrm>
              <a:off x="4191120" y="3259080"/>
              <a:ext cx="1536480" cy="1347840"/>
            </a:xfrm>
            <a:prstGeom prst="pi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857560" y="3968640"/>
              <a:ext cx="2407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UM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: Tutores, Especialistas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y Apoyos a Grupo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4505400" y="4297320"/>
            <a:ext cx="2553120" cy="1999440"/>
            <a:chOff x="4505400" y="4297320"/>
            <a:chExt cx="2553120" cy="1999440"/>
          </a:xfrm>
        </p:grpSpPr>
        <p:sp>
          <p:nvSpPr>
            <p:cNvPr id="215" name=""/>
            <p:cNvSpPr/>
            <p:nvPr/>
          </p:nvSpPr>
          <p:spPr>
            <a:xfrm>
              <a:off x="4505400" y="4297320"/>
              <a:ext cx="1666800" cy="1584360"/>
            </a:xfrm>
            <a:prstGeom prst="pi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2640" y="5989680"/>
              <a:ext cx="231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AD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: Un profesor por Cicl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9FBA-0491-4DA3-9E35-34718C809EF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El Coordinador TIC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26"/>
              </a:spcBef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Verdana"/>
              </a:rPr>
              <a:t>Sus funciones más destacadas: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814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Verdana"/>
              </a:rPr>
              <a:t>Apoyar al profesorado en la integración de las TICs en la docencia diaria.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814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Verdana"/>
              </a:rPr>
              <a:t>Organizar y gestionar los recursos asegurando su correcto funcionamiento.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814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Verdana"/>
              </a:rPr>
              <a:t>Colaborar en la implantación de los servicios de la Intranet.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814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Verdana"/>
              </a:rPr>
              <a:t>Dinamizar los proyectos del centro relacionados con NNTT.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814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Verdana"/>
              </a:rPr>
              <a:t>Gestionar el presupuesto específico.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814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Verdana"/>
              </a:rPr>
              <a:t>Coordinar la comunicación del centro con las instituciones en temas TIC.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spcAft>
                <a:spcPts val="8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018040" y="2141640"/>
            <a:ext cx="3665520" cy="28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A308-A2B4-4035-87C1-C03F94D4FDC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La Web del Centr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tuacion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Principio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4870-39BD-45B3-8391-33B4CF073A5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a web del centro I: Situacion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Recurso importante en el proyecto TIC del centro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Pretende los mismos objetivos que el plan TIC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Debe superar el enfoque inicial de “escaparate”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Portal de recursos de continua referencia del alumnado: de lo conocido a lo desconocido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7640640" y="38160"/>
            <a:ext cx="1455840" cy="144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B4E0-31C9-4E33-9061-3178EBFFE3A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La web del centro II: Principio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Verdana"/>
              </a:rPr>
              <a:t>Usabilidad</a:t>
            </a: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: entorno intuitivo, amigable y adaptado al alumnado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Verdana"/>
              </a:rPr>
              <a:t>Actividad</a:t>
            </a: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: participación del alumnado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Verdana"/>
              </a:rPr>
              <a:t>Enfoque educativo</a:t>
            </a: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: fomentar un uso más racional de los medios tecnológico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Verdana"/>
              </a:rPr>
              <a:t>Información</a:t>
            </a: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: comunicar los detalles del proyecto educativo al resto de la comunidad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Verdana"/>
              </a:rPr>
              <a:t>Portal de recursos</a:t>
            </a: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: integrar múltiples recursos para convertirlo en sitio de referencia permanente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Verdana"/>
              </a:rPr>
              <a:t>Animación</a:t>
            </a: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: facilitador de experiencias didácticas de innovación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7640640" y="38160"/>
            <a:ext cx="1455840" cy="144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869D-80F0-4110-A367-C7557F09262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rmación del profesorado: Modalidad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400120" y="1827360"/>
            <a:ext cx="628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actor clave de la integración TIC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minario de formación en centro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Bajo la dirección del coordinador y con el apoyo del Centro de Profesore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Sesión quincenal de 2 hora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Alterna formación impartida por el coordinador con trabajo individual, de pequeño y de gran grupo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ormación presencial: cursos del Centro de Profesore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ormación a distancia: Consejería y CNICE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85680" y="3591000"/>
            <a:ext cx="2209680" cy="308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C878-85B4-45AE-9D56-ECFE58688A6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Situación actual de las TIC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Principios de actuación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Contexto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9863-8D74-4ABB-A8E3-862E41FC6A0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Evaluación del proyect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valuación del alumno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valuación del profesor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valuación del proceso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91CD-F1FF-4D1A-950F-681A5420319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valuación del alumno 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Si se facilita la creatividad y la imaginación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Si se favorece la comunicación del alumnado con su entorno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Si se posibilita la integración social de alumnos con nee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Si se potencia el uso de nuevos entornos de aprendizaje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7209000" y="5419800"/>
            <a:ext cx="1352520" cy="131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986A-A0D5-48BA-A7EB-757046D0BA9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Evaluación del alumno II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36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la integración TIC supone construcción del conocimiento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mejoran las habilidades de pensamiento crítico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se adquieren valores relacionados con el uso de las TIC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se estimula el interés por aprender en alumnos con nee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se fomenta el trabajo cooperativo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7209000" y="5419800"/>
            <a:ext cx="1352520" cy="131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5E6C-25DA-4190-98B0-5FB3146AAA2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valuación del profesor 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739880" y="1827000"/>
            <a:ext cx="6943680" cy="36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se han incorporado TICs como instrumentos cognitivos en el desarrollo de Unidades Didáctica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el aprovechamiento de las TICs es el más adecuado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se ha participado activamente en la valoración, adaptación y diseño de recurso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se han experimentado modelos de enseñanza alternativos a la inst.directa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16080" y="4189320"/>
            <a:ext cx="142380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A52F-E989-49BE-9BBB-1F727BE3016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valuación del profesor I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739880" y="1827360"/>
            <a:ext cx="69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Si se ha puesto en práctica algún modelo de evaluación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Si la formación recibida es de utilidad en la docencia diaria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Si existe sensibilidad hacia el cambio de rol del profesor que supone la integración de las TIC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316080" y="4189320"/>
            <a:ext cx="142380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B411-227D-4D4B-9EDA-A1477254EFD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valuación del proces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819080" y="1827360"/>
            <a:ext cx="686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los recursos son adecuados y se utilizan de forma eficaz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la organización de recursos es idónea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existe compromiso de todos los participantes: alumnado, profesorado, familias, etc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se observa especial incidencia en la práctica docente y familiar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el trabajo del coordinador de TICs es adecuado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200160" y="5181480"/>
            <a:ext cx="1307880" cy="12272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289160" y="5573880"/>
            <a:ext cx="1054080" cy="988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BAB6-A9FE-44E7-98B7-DDCF05D5A5B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Situación Actual de las TICs I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14280" y="2189160"/>
            <a:ext cx="45594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Aprendizaje sobre/con la tecnología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Programas basados en la filosofía del refuerzo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El éxito de una aplicación también depende del contexto de uso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31720" y="3922560"/>
            <a:ext cx="2818080" cy="27226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156120" y="1482840"/>
            <a:ext cx="5778360" cy="3375000"/>
          </a:xfrm>
          <a:prstGeom prst="cloudCallout">
            <a:avLst>
              <a:gd name="adj1" fmla="val -40740"/>
              <a:gd name="adj2" fmla="val 69990"/>
            </a:avLst>
          </a:prstGeom>
          <a:noFill/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98C3-85D6-4BBC-8CC1-90FC74BE96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Situación Actual de las TICs II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0000" y="2027160"/>
            <a:ext cx="4888080" cy="33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a tecnología no garantiza motivació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o del ordenador como un libr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gramas para reforzar conocimientos o bien para mejorar la productividad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nflicto de competencias entre el ser humano y la máquina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 rot="20217600">
            <a:off x="6362640" y="4673160"/>
            <a:ext cx="3149640" cy="30434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99960" y="1444680"/>
            <a:ext cx="6458040" cy="4079880"/>
          </a:xfrm>
          <a:prstGeom prst="cloudCallout">
            <a:avLst>
              <a:gd name="adj1" fmla="val 45106"/>
              <a:gd name="adj2" fmla="val 39532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E049-C243-438A-B5E7-007A5829F5C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Principios I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0080" y="1884240"/>
            <a:ext cx="645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25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mentar creación frente a reproducció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Aft>
                <a:spcPts val="125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avorecer el aprendizaje interactivo, constructivo, autorregulado y tecnológic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Aft>
                <a:spcPts val="125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alorar el medio tecnológico por su valor como instrumento cognitiv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Aft>
                <a:spcPts val="125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nfatizar la construcción del conocimient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Aft>
                <a:spcPts val="125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stimular el desarrollo de habilidades del pensamient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945480" y="1590840"/>
            <a:ext cx="2014200" cy="285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5898-ACD3-4EA5-809A-1E70F63168C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Principios II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171960" y="1827360"/>
            <a:ext cx="551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spcAft>
                <a:spcPts val="112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Sensibilizarse con la educación en valores relacionada con el uso de las tecnología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spcAft>
                <a:spcPts val="118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Verdana"/>
              </a:rPr>
              <a:t>Enfatizar la vertiente cooperativa del aprendizaje: alumnos, profes, padres, etc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spcAft>
                <a:spcPts val="118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Verdana"/>
              </a:rPr>
              <a:t>Desarrollar habilidades instrumentales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spcAft>
                <a:spcPts val="118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Verdana"/>
              </a:rPr>
              <a:t>Alternar modelos de enseñanza y aprendizaje variados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spcAft>
                <a:spcPts val="118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Verdana"/>
              </a:rPr>
              <a:t>Utilizar un recurso tecnológico sólo si merece la pena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92200" y="3514680"/>
            <a:ext cx="201456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1C20-8AA2-4AE6-9D2F-3247B50A18C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Objetivos del Alumnado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Objetivos del Profesorado 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Objetivo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981C-5AC5-4B8B-8DDA-42973E44E88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ocument"/>
          <p:cNvSpPr/>
          <p:nvPr/>
        </p:nvSpPr>
        <p:spPr>
          <a:xfrm>
            <a:off x="1190520" y="1666800"/>
            <a:ext cx="4057920" cy="50389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bjetivos del alumnado 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36600" y="1703160"/>
            <a:ext cx="401184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Construir aprendizaje del currículo usando los medios tecnológico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Mejorar habilidades del pensamiento adquiriendo estrategias inteligente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Desarrollar el sentido crítico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Adquirir una adecuada formación en valore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664240" y="3857760"/>
            <a:ext cx="28764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D203-9429-4FC7-9D0F-AEF192A0ED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8T10:41:53Z</dcterms:created>
  <dc:creator> fpp</dc:creator>
  <dc:description/>
  <dc:language>en-US</dc:language>
  <cp:lastModifiedBy>fpp</cp:lastModifiedBy>
  <dcterms:modified xsi:type="dcterms:W3CDTF">2007-05-05T22:15:31Z</dcterms:modified>
  <cp:revision>95</cp:revision>
  <dc:subject/>
  <dc:title>Proyecto de TICs en un  Centro de Educación Primar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Path">
    <vt:lpwstr>Proyecto de TICs en un</vt:lpwstr>
  </property>
  <property fmtid="{D5CDD505-2E9C-101B-9397-08002B2CF9AE}" pid="3" name="LastUsedName">
    <vt:lpwstr>Proyecto de TICs en un</vt:lpwstr>
  </property>
</Properties>
</file>