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642100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8445-D559-425B-9C74-0CB3AE4FF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2E53-E749-45D1-96D3-9DDE8ECA5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9442-89D0-4E33-892A-D30CDFD6E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DB2B-4313-43F3-BEF6-8E7C4CB3C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6323B-D662-4281-B085-48A0A2630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E1439-D1C7-4B79-93B7-1A38B134E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5509E-A22F-4CE8-9757-1739821F9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88ABC-07A7-45D5-8219-CA00CF6FA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FDA25-4DED-4576-B477-36B6429D3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B700E-233D-4C03-BEAF-D432641ED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6A2E0-AAF0-4024-BBF0-1D45CCF7D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DB3D-EBD7-47E2-AE4E-050951784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AE00F-5D0F-48F7-93C5-E61667C26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B5976-0F3F-4E68-8C63-4B0BB751C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90E72-F34A-4CF9-9B2F-4FE2221E4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88ACA-C795-43AF-B290-9BDC9AD73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90353-404C-4FA9-AB50-971253313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DF5E-766A-436D-A7F9-5B0C34BEE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AFA4-0F9C-4BD2-882A-40D6979F7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92EA-A797-43E2-9AE3-4EAAB5642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A907-290C-4525-AF30-1AAF1678B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6401-A049-4B69-8A04-03BEFD288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85D9-ABFF-49E5-9D7D-6AFBA955D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7898-E3AA-4F41-8069-AF8CB5F40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ffffcc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ffff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2BE6A-CFD2-4E0C-ADD1-E1F6347A569B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C64D8-DB19-42BC-83A8-74F55AAEC785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ffffcc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image" Target="../media/image5.wmf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Proyecto TIC en un </a:t>
            </a:r>
            <a:br>
              <a:rPr sz="4000"/>
            </a:b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Centro Educativo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450800" y="2841480"/>
            <a:ext cx="3540240" cy="3117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1B83C-C2B6-4516-8492-3789863B3802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Document"/>
          <p:cNvSpPr/>
          <p:nvPr/>
        </p:nvSpPr>
        <p:spPr>
          <a:xfrm>
            <a:off x="1190520" y="1666800"/>
            <a:ext cx="4057920" cy="50389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Objetivos del alumnado I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36600" y="1731600"/>
            <a:ext cx="4011840" cy="45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spcAft>
                <a:spcPts val="1375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00"/>
                </a:solidFill>
                <a:latin typeface="Verdana"/>
              </a:rPr>
              <a:t>Aumentar el interés por aprender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spcAft>
                <a:spcPts val="1375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00"/>
                </a:solidFill>
                <a:latin typeface="Verdana"/>
              </a:rPr>
              <a:t>Favorecer el aprendizaje cooperativo y social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spcAft>
                <a:spcPts val="1375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00"/>
                </a:solidFill>
                <a:latin typeface="Verdana"/>
              </a:rPr>
              <a:t>Estimular creatividad e imaginación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664240" y="3857760"/>
            <a:ext cx="2876400" cy="2533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3F8A-8A9F-415A-9893-43F4F288A2D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Document"/>
          <p:cNvSpPr/>
          <p:nvPr/>
        </p:nvSpPr>
        <p:spPr>
          <a:xfrm>
            <a:off x="1190520" y="1666800"/>
            <a:ext cx="4057920" cy="50198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Objetivos del alumnado II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36600" y="1731960"/>
            <a:ext cx="4011840" cy="40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00"/>
                </a:solidFill>
                <a:latin typeface="Verdana"/>
              </a:rPr>
              <a:t>Enfatizar la vertiente comunicativa de los medios tecnológicos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00"/>
                </a:solidFill>
                <a:latin typeface="Verdana"/>
              </a:rPr>
              <a:t>Potenciar la integración de alumnado con necesidades educativas especiales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00"/>
                </a:solidFill>
                <a:latin typeface="Verdana"/>
              </a:rPr>
              <a:t>Familiarizarse y concienciarse del nuevo modelo de formación: autónomo y a distancia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664240" y="3857760"/>
            <a:ext cx="2876400" cy="2533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EC54-EDD0-48B0-BE36-1E085134C82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Objetivos del profesorado 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995480" y="1827360"/>
            <a:ext cx="6688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Diseñar Unidades Didácticas que incorporen el uso de nuevas tecnología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Adaptar o diseñar multimedias que favorezcan el aprendizaje constructivo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Experimentar modelos de enseñanza alternativos a la instrucción directa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Diseñar programas de apoyo al alumnado con necesidades educativa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16080" y="4189320"/>
            <a:ext cx="1423800" cy="225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4142-7C4F-4F9E-86F8-E702D049B83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Objetivos del profesorado I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995480" y="1827360"/>
            <a:ext cx="6688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spcAft>
                <a:spcPts val="1562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Desarrollar modelos de evaluación sobre la utilización de los medios tecnológicos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spcAft>
                <a:spcPts val="1562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Participar en iniciativas de formación presencial y a distancia sobre el uso de las NNTT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spcAft>
                <a:spcPts val="1562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Reconocer el nuevo rol del profesor: diseñador y facilitador de entornos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spcAft>
                <a:spcPts val="1562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16080" y="4189320"/>
            <a:ext cx="1423800" cy="225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ADB6-EF86-4ECF-BD91-B245C84FC1B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Líneas de Actuació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006560" y="2200320"/>
            <a:ext cx="1674720" cy="1496880"/>
            <a:chOff x="1006560" y="2200320"/>
            <a:chExt cx="1674720" cy="1496880"/>
          </a:xfrm>
        </p:grpSpPr>
        <p:pic>
          <p:nvPicPr>
            <p:cNvPr id="132" name="" descr=""/>
            <p:cNvPicPr/>
            <p:nvPr/>
          </p:nvPicPr>
          <p:blipFill>
            <a:blip r:embed="rId1"/>
            <a:stretch/>
          </p:blipFill>
          <p:spPr>
            <a:xfrm>
              <a:off x="1015920" y="2200320"/>
              <a:ext cx="1497240" cy="14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1404720" y="2486160"/>
              <a:ext cx="69876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00"/>
                  </a:solidFill>
                  <a:latin typeface="Verdana"/>
                </a:rPr>
                <a:t>UM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006560" y="3246480"/>
              <a:ext cx="167472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00"/>
                  </a:solidFill>
                  <a:latin typeface="Trebuchet MS"/>
                </a:rPr>
                <a:t>Uso de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00"/>
                  </a:solidFill>
                  <a:latin typeface="Trebuchet MS"/>
                </a:rPr>
                <a:t>Material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3454560" y="3246480"/>
            <a:ext cx="2266920" cy="1695240"/>
            <a:chOff x="3454560" y="3246480"/>
            <a:chExt cx="2266920" cy="1695240"/>
          </a:xfrm>
        </p:grpSpPr>
        <p:sp>
          <p:nvSpPr>
            <p:cNvPr id="136" name="computr3"/>
            <p:cNvSpPr/>
            <p:nvPr/>
          </p:nvSpPr>
          <p:spPr>
            <a:xfrm>
              <a:off x="3454560" y="3246480"/>
              <a:ext cx="2266920" cy="169524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193640" y="3362400"/>
              <a:ext cx="1018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00"/>
                  </a:solidFill>
                  <a:latin typeface="Verdana"/>
                </a:rPr>
                <a:t>Proyecto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369680" y="3673440"/>
              <a:ext cx="669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00"/>
                  </a:solidFill>
                  <a:latin typeface="Verdana"/>
                </a:rPr>
                <a:t>TIC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2747880" y="1600200"/>
            <a:ext cx="1674720" cy="1496880"/>
            <a:chOff x="2747880" y="1600200"/>
            <a:chExt cx="1674720" cy="1496880"/>
          </a:xfrm>
        </p:grpSpPr>
        <p:pic>
          <p:nvPicPr>
            <p:cNvPr id="140" name="" descr=""/>
            <p:cNvPicPr/>
            <p:nvPr/>
          </p:nvPicPr>
          <p:blipFill>
            <a:blip r:embed="rId2"/>
            <a:stretch/>
          </p:blipFill>
          <p:spPr>
            <a:xfrm>
              <a:off x="2757240" y="1600200"/>
              <a:ext cx="1497240" cy="14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3162960" y="1886040"/>
              <a:ext cx="66672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00"/>
                  </a:solidFill>
                  <a:latin typeface="Verdana"/>
                </a:rPr>
                <a:t>VM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747880" y="2646360"/>
              <a:ext cx="167472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00"/>
                  </a:solidFill>
                  <a:latin typeface="Trebuchet MS"/>
                </a:rPr>
                <a:t>Valoración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00"/>
                  </a:solidFill>
                  <a:latin typeface="Trebuchet MS"/>
                </a:rPr>
                <a:t>Material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5184720" y="1619280"/>
            <a:ext cx="1674720" cy="1496880"/>
            <a:chOff x="5184720" y="1619280"/>
            <a:chExt cx="1674720" cy="1496880"/>
          </a:xfrm>
        </p:grpSpPr>
        <p:pic>
          <p:nvPicPr>
            <p:cNvPr id="144" name="" descr=""/>
            <p:cNvPicPr/>
            <p:nvPr/>
          </p:nvPicPr>
          <p:blipFill>
            <a:blip r:embed="rId3"/>
            <a:stretch/>
          </p:blipFill>
          <p:spPr>
            <a:xfrm>
              <a:off x="5194080" y="1619280"/>
              <a:ext cx="1497240" cy="14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5625360" y="1905120"/>
              <a:ext cx="61668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00"/>
                  </a:solidFill>
                  <a:latin typeface="Verdana"/>
                </a:rPr>
                <a:t>AD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184720" y="2665440"/>
              <a:ext cx="167472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333300"/>
                  </a:solidFill>
                  <a:latin typeface="Trebuchet MS"/>
                </a:rPr>
                <a:t>Alfabetiz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333300"/>
                  </a:solidFill>
                  <a:latin typeface="Trebuchet MS"/>
                </a:rPr>
                <a:t>Digit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6840360" y="2496960"/>
            <a:ext cx="1674720" cy="1496880"/>
            <a:chOff x="6840360" y="2496960"/>
            <a:chExt cx="1674720" cy="1496880"/>
          </a:xfrm>
        </p:grpSpPr>
        <p:pic>
          <p:nvPicPr>
            <p:cNvPr id="148" name="" descr=""/>
            <p:cNvPicPr/>
            <p:nvPr/>
          </p:nvPicPr>
          <p:blipFill>
            <a:blip r:embed="rId4"/>
            <a:stretch/>
          </p:blipFill>
          <p:spPr>
            <a:xfrm>
              <a:off x="6849720" y="2496960"/>
              <a:ext cx="1497240" cy="14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7287480" y="2782800"/>
              <a:ext cx="60444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00"/>
                  </a:solidFill>
                  <a:latin typeface="Verdana"/>
                </a:rPr>
                <a:t>DV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840360" y="3543120"/>
              <a:ext cx="167472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00"/>
                  </a:solidFill>
                  <a:latin typeface="Trebuchet MS"/>
                </a:rPr>
                <a:t>Atenció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00"/>
                  </a:solidFill>
                  <a:latin typeface="Trebuchet MS"/>
                </a:rPr>
                <a:t>Diversida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6840360" y="4370400"/>
            <a:ext cx="1674720" cy="1496880"/>
            <a:chOff x="6840360" y="4370400"/>
            <a:chExt cx="1674720" cy="1496880"/>
          </a:xfrm>
        </p:grpSpPr>
        <p:pic>
          <p:nvPicPr>
            <p:cNvPr id="152" name="" descr=""/>
            <p:cNvPicPr/>
            <p:nvPr/>
          </p:nvPicPr>
          <p:blipFill>
            <a:blip r:embed="rId5"/>
            <a:stretch/>
          </p:blipFill>
          <p:spPr>
            <a:xfrm>
              <a:off x="6849720" y="4370400"/>
              <a:ext cx="1497240" cy="14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7312680" y="4656240"/>
              <a:ext cx="55548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00"/>
                  </a:solidFill>
                  <a:latin typeface="Verdana"/>
                </a:rPr>
                <a:t>B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840360" y="5416560"/>
              <a:ext cx="167472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00"/>
                  </a:solidFill>
                  <a:latin typeface="Trebuchet MS"/>
                </a:rPr>
                <a:t>Bibliotec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00"/>
                  </a:solidFill>
                  <a:latin typeface="Trebuchet MS"/>
                </a:rPr>
                <a:t>Escolar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4970520" y="5119560"/>
            <a:ext cx="1674720" cy="1496880"/>
            <a:chOff x="4970520" y="5119560"/>
            <a:chExt cx="1674720" cy="1496880"/>
          </a:xfrm>
        </p:grpSpPr>
        <p:pic>
          <p:nvPicPr>
            <p:cNvPr id="156" name="" descr=""/>
            <p:cNvPicPr/>
            <p:nvPr/>
          </p:nvPicPr>
          <p:blipFill>
            <a:blip r:embed="rId6"/>
            <a:stretch/>
          </p:blipFill>
          <p:spPr>
            <a:xfrm>
              <a:off x="4979880" y="5119560"/>
              <a:ext cx="1497240" cy="14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5414400" y="5405400"/>
              <a:ext cx="6120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00"/>
                  </a:solidFill>
                  <a:latin typeface="Verdana"/>
                </a:rPr>
                <a:t>GA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970520" y="6165720"/>
              <a:ext cx="167472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00"/>
                  </a:solidFill>
                  <a:latin typeface="Trebuchet MS"/>
                </a:rPr>
                <a:t>Gestió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00"/>
                  </a:solidFill>
                  <a:latin typeface="Trebuchet MS"/>
                </a:rPr>
                <a:t>Admin. y Tutor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2589120" y="5281560"/>
            <a:ext cx="1674720" cy="1496880"/>
            <a:chOff x="2589120" y="5281560"/>
            <a:chExt cx="1674720" cy="1496880"/>
          </a:xfrm>
        </p:grpSpPr>
        <p:pic>
          <p:nvPicPr>
            <p:cNvPr id="160" name="" descr=""/>
            <p:cNvPicPr/>
            <p:nvPr/>
          </p:nvPicPr>
          <p:blipFill>
            <a:blip r:embed="rId7"/>
            <a:stretch/>
          </p:blipFill>
          <p:spPr>
            <a:xfrm>
              <a:off x="2598480" y="5281560"/>
              <a:ext cx="1497240" cy="14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3069720" y="5567400"/>
              <a:ext cx="54036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00"/>
                  </a:solidFill>
                  <a:latin typeface="Verdana"/>
                </a:rPr>
                <a:t>FP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589120" y="6327720"/>
              <a:ext cx="167472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00"/>
                  </a:solidFill>
                  <a:latin typeface="Trebuchet MS"/>
                </a:rPr>
                <a:t>Formació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00"/>
                  </a:solidFill>
                  <a:latin typeface="Trebuchet MS"/>
                </a:rPr>
                <a:t>Profesorad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838080" y="4071960"/>
            <a:ext cx="1674720" cy="1496880"/>
            <a:chOff x="838080" y="4071960"/>
            <a:chExt cx="1674720" cy="1496880"/>
          </a:xfrm>
        </p:grpSpPr>
        <p:pic>
          <p:nvPicPr>
            <p:cNvPr id="164" name="" descr=""/>
            <p:cNvPicPr/>
            <p:nvPr/>
          </p:nvPicPr>
          <p:blipFill>
            <a:blip r:embed="rId8"/>
            <a:stretch/>
          </p:blipFill>
          <p:spPr>
            <a:xfrm>
              <a:off x="847440" y="4071960"/>
              <a:ext cx="1497240" cy="14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1240920" y="4357800"/>
              <a:ext cx="69444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00"/>
                  </a:solidFill>
                  <a:latin typeface="Verdana"/>
                </a:rPr>
                <a:t>DM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38080" y="5118120"/>
              <a:ext cx="167472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00"/>
                  </a:solidFill>
                  <a:latin typeface="Trebuchet MS"/>
                </a:rPr>
                <a:t>Diseñ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00"/>
                  </a:solidFill>
                  <a:latin typeface="Trebuchet MS"/>
                </a:rPr>
                <a:t>Material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7EDE-9C21-4A1B-9781-D9AA01AD0399}" type="slidenum">
              <a:t>14</a:t>
            </a:fld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lfabetización Digital: 1º Cicl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Teclado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Entorno Windows: Programas y Ventanas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Word: edición básica de un documento: título, imagen y texto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Navegación por Internet: websites conocidas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102280" y="1827360"/>
            <a:ext cx="3581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Navegación por Mi Primera Encarta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Dibujar con el Paint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La cámara digital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La grabadora de sonidos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Envío y Recepción de Emails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058160" y="0"/>
            <a:ext cx="1825560" cy="19051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74B3-8009-4D97-9E83-571AF4013DE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lfabetización Digital: 2º Cicl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Verdana"/>
              </a:rPr>
              <a:t>Teclado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Verdana"/>
              </a:rPr>
              <a:t>Entorno Windows: Archivos y Discos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Verdana"/>
              </a:rPr>
              <a:t>Word: edición de un documento: formato de imagen y texto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Verdana"/>
              </a:rPr>
              <a:t>Navegación por Internet:herramientas escolares y buscadores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102280" y="1827360"/>
            <a:ext cx="3581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Verdana"/>
              </a:rPr>
              <a:t>Herramientas escolares de Encarta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Verdana"/>
              </a:rPr>
              <a:t>Dibujar con el Paint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Verdana"/>
              </a:rPr>
              <a:t>La cámara digital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Verdana"/>
              </a:rPr>
              <a:t>La grabadora de sonidos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Verdana"/>
              </a:rPr>
              <a:t>Emails con adjuntos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Verdana"/>
              </a:rPr>
              <a:t>Escaneado de imágenes propias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058160" y="0"/>
            <a:ext cx="1825560" cy="19051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B9AF-7BAF-48F8-BDF3-B9861A03425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Otras Líneas de Actuació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Verdana"/>
              </a:rPr>
              <a:t>Biblioteca Escolar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Verdana"/>
              </a:rPr>
              <a:t>Gestión Administrativa y Tutoria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Verdana"/>
              </a:rPr>
              <a:t>Valoración de Materiales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Verdana"/>
              </a:rPr>
              <a:t>Diseño de Materiales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0FE8-2A55-4FC5-843A-8237275583A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Biblioteca Escolar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Verdana"/>
              </a:rPr>
              <a:t>Biblioteca -&gt; Mediateca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Verdana"/>
              </a:rPr>
              <a:t>Gestión catálogo: Abies 2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Verdana"/>
              </a:rPr>
              <a:t>Consulta web del catálogo: Bonsai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Verdana"/>
              </a:rPr>
              <a:t>Formación de usuarios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Verdana"/>
              </a:rPr>
              <a:t>Proyecto interdisciplinar por hitos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7f7f7f"/>
                </a:solidFill>
                <a:latin typeface="Verdana"/>
              </a:rPr>
              <a:t>	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28440" y="5210280"/>
            <a:ext cx="2033640" cy="161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D5EB-17A1-45D9-AA9C-55BA184F02B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Gestión Administrativa y Tutoria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Verdana"/>
              </a:rPr>
              <a:t>Plantillas documentación oficial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Verdana"/>
              </a:rPr>
              <a:t>Gestión escolar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Verdana"/>
              </a:rPr>
              <a:t>Gestión económica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Verdana"/>
              </a:rPr>
              <a:t>Noticias web para familias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Verdana"/>
              </a:rPr>
              <a:t>Gestión tutorial: listas y evaluaciones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9D3C-0FF4-4B81-A3DE-04684A3BA50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Índic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Contexto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Objetivos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Líneas de Actuación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Organización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La Web del Centro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ormación del Profesorado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Evaluación del Proyecto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Perspectivas del futuro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E265-64BA-4CF4-B0A5-2548D2CB372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Valoración de Material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Verdana"/>
              </a:rPr>
              <a:t>Equipo de profesores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Verdana"/>
              </a:rPr>
              <a:t>Criterios de valoración </a:t>
            </a: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(1) Profesor Marc Peré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Verdana"/>
              </a:rPr>
              <a:t>Aspectos técnicos: interacción, fiabilidad, navegación, etc. 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Verdana"/>
              </a:rPr>
              <a:t>Aspectos estéticos: entorno, calidad …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Verdana"/>
              </a:rPr>
              <a:t>Aspectos de utilidad didáctica: estrategias, evaluación, continuidad …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Verdana"/>
              </a:rPr>
              <a:t>Aspectos pedagógicos: refuerzos, motivación, buscadores, etc.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Verdana"/>
              </a:rPr>
              <a:t>Elaboración de una guía de explotación didáctica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Verdana"/>
              </a:rPr>
              <a:t>Presentación del material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Verdana"/>
              </a:rPr>
              <a:t>Revisión del Plan Anual de Uso de Materiales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A66D-CA13-46ED-86B7-16E5F7ACA40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Diseño de Materiales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69800" y="2548080"/>
            <a:ext cx="73134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Necesidad del diseño: escasez de iniciativas editoriales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Entornos de publicación: Aula - Red local – Web del centro – Aula virtual - Otros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Herramientas: Word – FrontPage - PowerPoint – Autor NEA - Hot Potatoes – JClic – Flash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6643800" y="530280"/>
            <a:ext cx="2039760" cy="2017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A995-1074-4C0D-96E0-C3E5FE88259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Organizació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Horarios y espacios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Organigrama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El Coordinador TIC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41AE-1249-4D5A-8E36-6DCE2A3A3CE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Organización: Horarios y espacios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590840" y="1827360"/>
            <a:ext cx="7092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spcAft>
                <a:spcPts val="638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ffffff"/>
                </a:solidFill>
                <a:latin typeface="Verdana"/>
              </a:rPr>
              <a:t>UM</a:t>
            </a:r>
            <a:r>
              <a:rPr b="0" lang="es-ES" sz="17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" sz="1700" spc="-1" strike="noStrike">
                <a:solidFill>
                  <a:srgbClr val="ffffff"/>
                </a:solidFill>
                <a:latin typeface="Verdana"/>
              </a:rPr>
              <a:t>Uso de Materiales I</a:t>
            </a:r>
            <a:r>
              <a:rPr b="0" lang="es-ES" sz="1700" spc="-1" strike="noStrike">
                <a:solidFill>
                  <a:srgbClr val="ffffff"/>
                </a:solidFill>
                <a:latin typeface="Verdana"/>
              </a:rPr>
              <a:t>: 1 sesión semanal. Cada grupo asiste con su tutor. (12 horas).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spcAft>
                <a:spcPts val="638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ffffff"/>
                </a:solidFill>
                <a:latin typeface="Verdana"/>
              </a:rPr>
              <a:t>UM</a:t>
            </a:r>
            <a:r>
              <a:rPr b="0" lang="es-ES" sz="17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" sz="1700" spc="-1" strike="noStrike">
                <a:solidFill>
                  <a:srgbClr val="ffffff"/>
                </a:solidFill>
                <a:latin typeface="Verdana"/>
              </a:rPr>
              <a:t>Uso de Materiales II</a:t>
            </a:r>
            <a:r>
              <a:rPr b="0" lang="es-ES" sz="1700" spc="-1" strike="noStrike">
                <a:solidFill>
                  <a:srgbClr val="ffffff"/>
                </a:solidFill>
                <a:latin typeface="Verdana"/>
              </a:rPr>
              <a:t>: 1 sesión quincenal. Cada grupo asiste con profesor especialista (Inglés-Música-Llíngua-Plástica) (20 horas).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spcAft>
                <a:spcPts val="638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ffffff"/>
                </a:solidFill>
                <a:latin typeface="Verdana"/>
              </a:rPr>
              <a:t>AD Alfabetización Digital</a:t>
            </a:r>
            <a:r>
              <a:rPr b="0" lang="es-ES" sz="1700" spc="-1" strike="noStrike">
                <a:solidFill>
                  <a:srgbClr val="ffffff"/>
                </a:solidFill>
                <a:latin typeface="Verdana"/>
              </a:rPr>
              <a:t>: 1 sesión semanal. Cada grupo asiste con un profesor responsable de Ciclo (12 horas).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spcAft>
                <a:spcPts val="638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ffffff"/>
                </a:solidFill>
                <a:latin typeface="Verdana"/>
              </a:rPr>
              <a:t>BE Biblioteca Escolar</a:t>
            </a:r>
            <a:r>
              <a:rPr b="0" lang="es-ES" sz="1700" spc="-1" strike="noStrike">
                <a:solidFill>
                  <a:srgbClr val="ffffff"/>
                </a:solidFill>
                <a:latin typeface="Verdana"/>
              </a:rPr>
              <a:t>: 1 sesión semanal. Cada grupo asiste con su tutor.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spcAft>
                <a:spcPts val="638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ffffff"/>
                </a:solidFill>
                <a:latin typeface="Verdana"/>
              </a:rPr>
              <a:t>AD</a:t>
            </a:r>
            <a:r>
              <a:rPr b="0" lang="es-ES" sz="17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" sz="1700" spc="-1" strike="noStrike">
                <a:solidFill>
                  <a:srgbClr val="ffffff"/>
                </a:solidFill>
                <a:latin typeface="Verdana"/>
              </a:rPr>
              <a:t>Atención a la Diversidad </a:t>
            </a:r>
            <a:r>
              <a:rPr b="0" lang="es-ES" sz="1700" spc="-1" strike="noStrike">
                <a:solidFill>
                  <a:srgbClr val="ffffff"/>
                </a:solidFill>
                <a:latin typeface="Verdana"/>
              </a:rPr>
              <a:t>(apoyos): resto horario lectivo disponible.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spcAft>
                <a:spcPts val="638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ffffff"/>
                </a:solidFill>
                <a:latin typeface="Verdana"/>
              </a:rPr>
              <a:t>FP Formación profesorado. </a:t>
            </a:r>
            <a:r>
              <a:rPr b="0" lang="es-ES" sz="1700" spc="-1" strike="noStrike">
                <a:solidFill>
                  <a:srgbClr val="ffffff"/>
                </a:solidFill>
                <a:latin typeface="Verdana"/>
              </a:rPr>
              <a:t>Horario de dedicación exclusiva (2 horas semanales: individual y grupo).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25"/>
              </a:spcBef>
              <a:spcAft>
                <a:spcPts val="6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136440" y="4495680"/>
            <a:ext cx="1594080" cy="2167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6C8E-75D8-432E-AB38-57E45F686FB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Organización: Organigrama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5410080" y="2540160"/>
            <a:ext cx="3601440" cy="1402560"/>
            <a:chOff x="5410080" y="2540160"/>
            <a:chExt cx="3601440" cy="1402560"/>
          </a:xfrm>
        </p:grpSpPr>
        <p:sp>
          <p:nvSpPr>
            <p:cNvPr id="194" name=""/>
            <p:cNvSpPr/>
            <p:nvPr/>
          </p:nvSpPr>
          <p:spPr>
            <a:xfrm>
              <a:off x="5410080" y="2540160"/>
              <a:ext cx="1308240" cy="1226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752160" y="3422520"/>
              <a:ext cx="2259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DV</a:t>
              </a: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: Profesores de Apoy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, Logopedia y P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6010200" y="1724040"/>
            <a:ext cx="2193840" cy="1225440"/>
            <a:chOff x="6010200" y="1724040"/>
            <a:chExt cx="2193840" cy="1225440"/>
          </a:xfrm>
        </p:grpSpPr>
        <p:sp>
          <p:nvSpPr>
            <p:cNvPr id="197" name=""/>
            <p:cNvSpPr/>
            <p:nvPr/>
          </p:nvSpPr>
          <p:spPr>
            <a:xfrm>
              <a:off x="6461280" y="2016000"/>
              <a:ext cx="1168200" cy="93348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010200" y="1724040"/>
              <a:ext cx="2193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GA: </a:t>
              </a: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Tutores y Secretarí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1016640" y="2062080"/>
            <a:ext cx="1717200" cy="1704960"/>
            <a:chOff x="1016640" y="2062080"/>
            <a:chExt cx="1717200" cy="1704960"/>
          </a:xfrm>
        </p:grpSpPr>
        <p:sp>
          <p:nvSpPr>
            <p:cNvPr id="200" name=""/>
            <p:cNvSpPr/>
            <p:nvPr/>
          </p:nvSpPr>
          <p:spPr>
            <a:xfrm>
              <a:off x="1380960" y="2579760"/>
              <a:ext cx="1352880" cy="11872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016640" y="206208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BE: </a:t>
              </a: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Responsabl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de la Bibliotec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783000" y="3173400"/>
            <a:ext cx="2939760" cy="1347840"/>
            <a:chOff x="783000" y="3173400"/>
            <a:chExt cx="2939760" cy="1347840"/>
          </a:xfrm>
        </p:grpSpPr>
        <p:sp>
          <p:nvSpPr>
            <p:cNvPr id="203" name=""/>
            <p:cNvSpPr/>
            <p:nvPr/>
          </p:nvSpPr>
          <p:spPr>
            <a:xfrm>
              <a:off x="2185920" y="3173400"/>
              <a:ext cx="1536840" cy="1347840"/>
            </a:xfrm>
            <a:prstGeom prst="pie">
              <a:avLst/>
            </a:prstGeom>
            <a:solidFill>
              <a:srgbClr val="66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83000" y="3848040"/>
              <a:ext cx="1491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DM</a:t>
              </a: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: Grupos de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profesor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1157040" y="4297320"/>
            <a:ext cx="2229120" cy="2050200"/>
            <a:chOff x="1157040" y="4297320"/>
            <a:chExt cx="2229120" cy="2050200"/>
          </a:xfrm>
        </p:grpSpPr>
        <p:sp>
          <p:nvSpPr>
            <p:cNvPr id="206" name=""/>
            <p:cNvSpPr/>
            <p:nvPr/>
          </p:nvSpPr>
          <p:spPr>
            <a:xfrm>
              <a:off x="1228680" y="4297320"/>
              <a:ext cx="1893960" cy="1692360"/>
            </a:xfrm>
            <a:prstGeom prst="pie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157040" y="6040440"/>
              <a:ext cx="22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FP</a:t>
              </a: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: Todos los profesor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3012480" y="2070000"/>
            <a:ext cx="2462040" cy="1758960"/>
            <a:chOff x="3012480" y="2070000"/>
            <a:chExt cx="2462040" cy="1758960"/>
          </a:xfrm>
        </p:grpSpPr>
        <p:sp>
          <p:nvSpPr>
            <p:cNvPr id="209" name=""/>
            <p:cNvSpPr/>
            <p:nvPr/>
          </p:nvSpPr>
          <p:spPr>
            <a:xfrm>
              <a:off x="3436920" y="2481120"/>
              <a:ext cx="1373040" cy="1347840"/>
            </a:xfrm>
            <a:prstGeom prst="pie">
              <a:avLst/>
            </a:prstGeom>
            <a:solidFill>
              <a:srgbClr val="33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012480" y="2070000"/>
              <a:ext cx="2462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VM</a:t>
              </a: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: Coordinador Ciclo y u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profesor por especialida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4191120" y="3259080"/>
            <a:ext cx="4073760" cy="1347840"/>
            <a:chOff x="4191120" y="3259080"/>
            <a:chExt cx="4073760" cy="1347840"/>
          </a:xfrm>
        </p:grpSpPr>
        <p:sp>
          <p:nvSpPr>
            <p:cNvPr id="212" name=""/>
            <p:cNvSpPr/>
            <p:nvPr/>
          </p:nvSpPr>
          <p:spPr>
            <a:xfrm>
              <a:off x="4191120" y="3259080"/>
              <a:ext cx="1536480" cy="1347840"/>
            </a:xfrm>
            <a:prstGeom prst="pie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857560" y="3968640"/>
              <a:ext cx="2407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UM</a:t>
              </a: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: Tutores, Especialistas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y Apoyos a Grupo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4505400" y="4297320"/>
            <a:ext cx="2553120" cy="1999440"/>
            <a:chOff x="4505400" y="4297320"/>
            <a:chExt cx="2553120" cy="1999440"/>
          </a:xfrm>
        </p:grpSpPr>
        <p:sp>
          <p:nvSpPr>
            <p:cNvPr id="215" name=""/>
            <p:cNvSpPr/>
            <p:nvPr/>
          </p:nvSpPr>
          <p:spPr>
            <a:xfrm>
              <a:off x="4505400" y="4297320"/>
              <a:ext cx="1666800" cy="1584360"/>
            </a:xfrm>
            <a:prstGeom prst="pi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2640" y="5989680"/>
              <a:ext cx="2315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AD</a:t>
              </a: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: Un profesor por Cicl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BB62-AF8B-42F3-9B04-1B860E0BA8D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El Coordinador TIC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26"/>
              </a:spcBef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Verdana"/>
              </a:rPr>
              <a:t>Sus funciones más destacadas: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spcAft>
                <a:spcPts val="814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Verdana"/>
              </a:rPr>
              <a:t>Apoyar al profesorado en la integración de las TICs en la docencia diaria.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spcAft>
                <a:spcPts val="814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Verdana"/>
              </a:rPr>
              <a:t>Organizar y gestionar los recursos asegurando su correcto funcionamiento.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spcAft>
                <a:spcPts val="814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Verdana"/>
              </a:rPr>
              <a:t>Colaborar en la implantación de los servicios de la Intranet.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spcAft>
                <a:spcPts val="814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Verdana"/>
              </a:rPr>
              <a:t>Dinamizar los proyectos del centro relacionados con NNTT.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spcAft>
                <a:spcPts val="814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Verdana"/>
              </a:rPr>
              <a:t>Gestionar el presupuesto específico.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spcAft>
                <a:spcPts val="814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Verdana"/>
              </a:rPr>
              <a:t>Coordinar la comunicación del centro con las instituciones en temas TIC.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spcAft>
                <a:spcPts val="8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5018040" y="2141640"/>
            <a:ext cx="3665520" cy="2838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8937-1669-48E1-A457-A75FC26BC22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La Web del Centr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ituaciones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Principios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6146-F7AC-4D9B-A7F6-8798E06E799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La web del centro I: Situacion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Recurso importante en el proyecto TIC del centro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Pretende los mismos objetivos que el plan TIC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Debe superar el enfoque inicial de “escaparate”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Portal de recursos de continua referencia del alumnado: de lo conocido a lo desconocido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7640640" y="38160"/>
            <a:ext cx="1455840" cy="1449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2F95-EEBC-47F7-8516-4240623CB28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Arial"/>
              </a:rPr>
              <a:t>La web del centro II: Principios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ffffff"/>
                </a:solidFill>
                <a:latin typeface="Verdana"/>
              </a:rPr>
              <a:t>Usabilidad</a:t>
            </a:r>
            <a:r>
              <a:rPr b="0" lang="es-ES" sz="2100" spc="-1" strike="noStrike">
                <a:solidFill>
                  <a:srgbClr val="ffffff"/>
                </a:solidFill>
                <a:latin typeface="Verdana"/>
              </a:rPr>
              <a:t>: entorno intuitivo, amigable y adaptado al alumnado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ffffff"/>
                </a:solidFill>
                <a:latin typeface="Verdana"/>
              </a:rPr>
              <a:t>Actividad</a:t>
            </a:r>
            <a:r>
              <a:rPr b="0" lang="es-ES" sz="2100" spc="-1" strike="noStrike">
                <a:solidFill>
                  <a:srgbClr val="ffffff"/>
                </a:solidFill>
                <a:latin typeface="Verdana"/>
              </a:rPr>
              <a:t>: participación del alumnado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ffffff"/>
                </a:solidFill>
                <a:latin typeface="Verdana"/>
              </a:rPr>
              <a:t>Enfoque educativo</a:t>
            </a:r>
            <a:r>
              <a:rPr b="0" lang="es-ES" sz="2100" spc="-1" strike="noStrike">
                <a:solidFill>
                  <a:srgbClr val="ffffff"/>
                </a:solidFill>
                <a:latin typeface="Verdana"/>
              </a:rPr>
              <a:t>: fomentar un uso más racional de los medios tecnológicos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ffffff"/>
                </a:solidFill>
                <a:latin typeface="Verdana"/>
              </a:rPr>
              <a:t>Información</a:t>
            </a:r>
            <a:r>
              <a:rPr b="0" lang="es-ES" sz="2100" spc="-1" strike="noStrike">
                <a:solidFill>
                  <a:srgbClr val="ffffff"/>
                </a:solidFill>
                <a:latin typeface="Verdana"/>
              </a:rPr>
              <a:t>: comunicar los detalles del proyecto educativo al resto de la comunidad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ffffff"/>
                </a:solidFill>
                <a:latin typeface="Verdana"/>
              </a:rPr>
              <a:t>Portal de recursos</a:t>
            </a:r>
            <a:r>
              <a:rPr b="0" lang="es-ES" sz="2100" spc="-1" strike="noStrike">
                <a:solidFill>
                  <a:srgbClr val="ffffff"/>
                </a:solidFill>
                <a:latin typeface="Verdana"/>
              </a:rPr>
              <a:t>: integrar múltiples recursos para convertirlo en sitio de referencia permanente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ffffff"/>
                </a:solidFill>
                <a:latin typeface="Verdana"/>
              </a:rPr>
              <a:t>Animación</a:t>
            </a:r>
            <a:r>
              <a:rPr b="0" lang="es-ES" sz="2100" spc="-1" strike="noStrike">
                <a:solidFill>
                  <a:srgbClr val="ffffff"/>
                </a:solidFill>
                <a:latin typeface="Verdana"/>
              </a:rPr>
              <a:t>: facilitador de experiencias didácticas de innovación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7640640" y="38160"/>
            <a:ext cx="1455840" cy="1449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B82C-61B6-474D-83D9-34B10E1E137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rmación del profesorado: Modalidad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400120" y="1827360"/>
            <a:ext cx="628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Factor clave de la integración TIC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Seminario de formación en centro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Verdana"/>
              </a:rPr>
              <a:t>Bajo la dirección del coordinador y con el apoyo del Centro de Profesores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Verdana"/>
              </a:rPr>
              <a:t>Sesión quincenal de 2 horas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Verdana"/>
              </a:rPr>
              <a:t>Alterna formación impartida por el coordinador con trabajo individual, de pequeño y de gran grupo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Formación presencial: cursos del Centro de Profesores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Formación a distancia: Consejería y CNICE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85680" y="3591000"/>
            <a:ext cx="2209680" cy="3085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AFD0-F641-40C0-911A-C8985B13DE4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Verdana"/>
              </a:rPr>
              <a:t>Situación actual de las TICs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Verdana"/>
              </a:rPr>
              <a:t>Principios de actuación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Arial"/>
              </a:rPr>
              <a:t>Contexto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E5DE-92E0-4A3B-BE3C-9E8FF2EB1CA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Evaluación del proyect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Evaluación del alumno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Evaluación del profesor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Evaluación del proceso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B174-10CF-4115-9577-75293382A16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valuación del alumno 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Verdana"/>
              </a:rPr>
              <a:t>Si se facilita la creatividad y la imaginación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Verdana"/>
              </a:rPr>
              <a:t>Si se favorece la comunicación del alumnado con su entorno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Verdana"/>
              </a:rPr>
              <a:t>Si se posibilita la integración social de alumnos con nee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Verdana"/>
              </a:rPr>
              <a:t>Si se potencia el uso de nuevos entornos de aprendizaje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7209000" y="5419800"/>
            <a:ext cx="1352520" cy="1319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E33D-D7DD-4898-9346-90F77E6C3BF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Evaluación del alumno II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3400" cy="36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Si la integración TIC supone construcción del conocimiento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Si mejoran las habilidades de pensamiento crítico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Si se adquieren valores relacionados con el uso de las TIC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Si se estimula el interés por aprender en alumnos con nee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Si se fomenta el trabajo cooperativo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7209000" y="5419800"/>
            <a:ext cx="1352520" cy="1319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0602-8492-4A91-B57B-A64BA287C4E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valuación del profesor 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739880" y="1827000"/>
            <a:ext cx="6943680" cy="367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Si se han incorporado TICs como instrumentos cognitivos en el desarrollo de Unidades Didácticas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Si el aprovechamiento de las TICs es el más adecuado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Si se ha participado activamente en la valoración, adaptación y diseño de recursos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Si se han experimentado modelos de enseñanza alternativos a la inst.directa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316080" y="4189320"/>
            <a:ext cx="1423800" cy="225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83B4-1890-494B-B583-243856DC9F3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valuación del profesor I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739880" y="1827360"/>
            <a:ext cx="69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Verdana"/>
              </a:rPr>
              <a:t>Si se ha puesto en práctica algún modelo de evaluación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Verdana"/>
              </a:rPr>
              <a:t>Si la formación recibida es de utilidad en la docencia diaria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Verdana"/>
              </a:rPr>
              <a:t>Si existe sensibilidad hacia el cambio de rol del profesor que supone la integración de las TICs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316080" y="4189320"/>
            <a:ext cx="1423800" cy="225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7058-60D1-4A9C-94D4-E4C099C03504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valuación del proces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819080" y="1827360"/>
            <a:ext cx="6864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Si los recursos son adecuados y se utilizan de forma eficaz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Si la organización de recursos es idónea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Si existe compromiso de todos los participantes: alumnado, profesorado, familias, etc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Si se observa especial incidencia en la práctica docente y familiar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Si el trabajo del coordinador de TICs es adecuado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200160" y="5181480"/>
            <a:ext cx="1307880" cy="12272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289160" y="5573880"/>
            <a:ext cx="1054080" cy="988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1BE4-0CF0-4934-B1D9-A2895D6E63A9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Arial"/>
              </a:rPr>
              <a:t>Situación Actual de las TICs I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914280" y="2189160"/>
            <a:ext cx="455940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Verdana"/>
              </a:rPr>
              <a:t>Aprendizaje sobre/con la tecnología.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Verdana"/>
              </a:rPr>
              <a:t>Programas basados en la filosofía del refuerzo.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Verdana"/>
              </a:rPr>
              <a:t>El éxito de una aplicación también depende del contexto de uso.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531720" y="3922560"/>
            <a:ext cx="2818080" cy="27226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156120" y="1482840"/>
            <a:ext cx="5778360" cy="3375000"/>
          </a:xfrm>
          <a:prstGeom prst="cloudCallout">
            <a:avLst>
              <a:gd name="adj1" fmla="val -40740"/>
              <a:gd name="adj2" fmla="val 69990"/>
            </a:avLst>
          </a:prstGeom>
          <a:noFill/>
          <a:ln w="255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3227-2C59-4067-B46B-6D6AD3051D0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Arial"/>
              </a:rPr>
              <a:t>Situación Actual de las TICs II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70000" y="2027160"/>
            <a:ext cx="4888080" cy="33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La tecnología no garantiza motivación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Uso del ordenador como un libro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rogramas para reforzar conocimientos o bien para mejorar la productividad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nflicto de competencias entre el ser humano y la máquina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 rot="20217600">
            <a:off x="6362640" y="4673160"/>
            <a:ext cx="3149640" cy="30434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99960" y="1444680"/>
            <a:ext cx="6458040" cy="4079880"/>
          </a:xfrm>
          <a:prstGeom prst="cloudCallout">
            <a:avLst>
              <a:gd name="adj1" fmla="val 45106"/>
              <a:gd name="adj2" fmla="val 39532"/>
            </a:avLst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8E57-9E9C-4844-BAFD-60F696736CE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Principios I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60080" y="1884240"/>
            <a:ext cx="645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1250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mentar creación frente a reproducción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Aft>
                <a:spcPts val="1250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avorecer el aprendizaje interactivo, constructivo, autorregulado y tecnológico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Aft>
                <a:spcPts val="1250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Valorar el medio tecnológico por su valor como instrumento cognitivo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Aft>
                <a:spcPts val="1250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nfatizar la construcción del conocimiento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Aft>
                <a:spcPts val="1250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stimular el desarrollo de habilidades del pensamiento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945480" y="1590840"/>
            <a:ext cx="2014200" cy="2857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1068-58BC-4526-9DA1-BEA6C7AD7B6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Principios II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171960" y="1827360"/>
            <a:ext cx="5511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spcAft>
                <a:spcPts val="1125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Sensibilizarse con la educación en valores relacionada con el uso de las tecnologías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spcAft>
                <a:spcPts val="1188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Verdana"/>
              </a:rPr>
              <a:t>Enfatizar la vertiente cooperativa del aprendizaje: alumnos, profes, padres, etc.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spcAft>
                <a:spcPts val="1188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Verdana"/>
              </a:rPr>
              <a:t>Desarrollar habilidades instrumentales.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spcAft>
                <a:spcPts val="1188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Verdana"/>
              </a:rPr>
              <a:t>Alternar modelos de enseñanza y aprendizaje variados.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spcAft>
                <a:spcPts val="1188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Verdana"/>
              </a:rPr>
              <a:t>Utilizar un recurso tecnológico sólo si merece la pena.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spcAft>
                <a:spcPts val="11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92200" y="3514680"/>
            <a:ext cx="2014560" cy="2857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7A00-F95A-4CAE-A59C-F67D120F4D5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Objetivos del Alumnado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Objetivos del Profesorado 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Arial"/>
              </a:rPr>
              <a:t>Objetivos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BA0D-AD9F-4B2F-AD18-E74978A142B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Document"/>
          <p:cNvSpPr/>
          <p:nvPr/>
        </p:nvSpPr>
        <p:spPr>
          <a:xfrm>
            <a:off x="1190520" y="1666800"/>
            <a:ext cx="4057920" cy="50389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Objetivos del alumnado 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36600" y="1703160"/>
            <a:ext cx="4011840" cy="45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00"/>
                </a:solidFill>
                <a:latin typeface="Verdana"/>
              </a:rPr>
              <a:t>Construir aprendizaje del currículo usando los medios tecnológicos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00"/>
                </a:solidFill>
                <a:latin typeface="Verdana"/>
              </a:rPr>
              <a:t>Mejorar habilidades del pensamiento adquiriendo estrategias inteligentes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00"/>
                </a:solidFill>
                <a:latin typeface="Verdana"/>
              </a:rPr>
              <a:t>Desarrollar el sentido crítico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00"/>
                </a:solidFill>
                <a:latin typeface="Verdana"/>
              </a:rPr>
              <a:t>Adquirir una adecuada formación en valores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664240" y="3857760"/>
            <a:ext cx="2876400" cy="2533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9A66-E7E6-41F7-9452-CF3331683FA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8T10:41:53Z</dcterms:created>
  <dc:creator> fpp</dc:creator>
  <dc:description/>
  <dc:language>en-US</dc:language>
  <cp:lastModifiedBy>fpp</cp:lastModifiedBy>
  <dcterms:modified xsi:type="dcterms:W3CDTF">2007-05-05T22:15:31Z</dcterms:modified>
  <cp:revision>95</cp:revision>
  <dc:subject/>
  <dc:title>Proyecto de TICs en un  Centro de Educación Primari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Path">
    <vt:lpwstr>Proyecto de TICs en un</vt:lpwstr>
  </property>
  <property fmtid="{D5CDD505-2E9C-101B-9397-08002B2CF9AE}" pid="3" name="LastUsedName">
    <vt:lpwstr>Proyecto de TICs en un</vt:lpwstr>
  </property>
</Properties>
</file>